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4979880" cy="37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6896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24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3"/>
          </p:nvPr>
        </p:nvSpPr>
        <p:spPr>
          <a:xfrm>
            <a:off x="4398840" y="-360"/>
            <a:ext cx="3324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4"/>
          </p:nvPr>
        </p:nvSpPr>
        <p:spPr>
          <a:xfrm>
            <a:off x="0" y="9554760"/>
            <a:ext cx="3324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5"/>
          </p:nvPr>
        </p:nvSpPr>
        <p:spPr>
          <a:xfrm>
            <a:off x="4398840" y="9554760"/>
            <a:ext cx="3324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633B87-319B-4351-A794-1DF14C3957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l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C3 CF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2d probabilistic forecasting using GCM ensemble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P7 projects – Environment, call for European s2d  forecasts towards climate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limate services  term from WMO GF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l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C3 CF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2d probabilistic forecasting using GCM ensemble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P7 projects – Environment, call for European s2d  forecasts towards climate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limate services  term from WMO GF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l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C3 CF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2d probabilistic forecasting using GCM ensemble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P7 projects – Environment, call for European s2d  forecasts towards climate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limate services  term from WMO GF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l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C3 CF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2d probabilistic forecasting using GCM ensemble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P7 projects – Environment, call for European s2d  forecasts towards climate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limate services  term from WMO GF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l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C3 CF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2d probabilistic forecasting using GCM ensemble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P7 projects – Environment, call for European s2d  forecasts towards climate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limate services  term from WMO GF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l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C3 CF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2d probabilistic forecasting using GCM ensemble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P7 projects – Environment, call for European s2d  forecasts towards climate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limate services  term from WMO GF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y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EB8-D177-4355-ACE5-6D896A42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" y="41875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757-3AE3-4533-8DE9-A941CCDA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2640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114-D6EF-441D-8705-F175E073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392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0420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392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0420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0FC-DD6C-40F4-8539-2859CA36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55FA-1CCE-4583-8B49-6981661B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2160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3FCF-FF8D-433A-95F5-ADCCE47D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2160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D7D1-C5B9-423C-B365-CB72217B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C941-2E2A-4124-86D8-3B65A119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EABC-5426-41BD-BBD0-C3401A95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21600" cy="56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E29B-A2A4-4206-857A-C0A4B5FF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6569-C1EF-4678-B15E-1279C941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2160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8D04-16D3-4C75-A39B-D235454C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2640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E020-3AFD-4AC4-9152-A459804E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7B2B-9DF4-49C3-8097-BE34B221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41875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0D06-7592-47DD-9CEA-17BBDB04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2640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AC71-B81D-4E98-95A4-2341E98F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5392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0420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5392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0420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C93B-FC74-4F1D-8375-BEC7146F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2B171-E599-4C95-9CFE-58C08DDE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2160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BBE8E-DEEE-4F15-BB15-29124BF8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2160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CD9CC-2420-4D51-AEE0-5D5ACB32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BC6C4-15F7-41BC-9946-643D2214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E2E48-9276-4F5E-A2A8-358ECCAF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2160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E3A-6C6A-48B4-8AFC-A163E902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21600" cy="56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0290B-1316-41C2-AD56-F4DB03A7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1109E-D8B9-46CF-B7F3-45482DE4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2640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0CCE7-9794-49A5-9DB1-3825857D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FDB4-3D01-4696-A248-BD1983EC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41875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B284A-9516-47CA-9D78-4D57A5DA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2640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3E72A-311C-4CC8-9607-3375E328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5392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60420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5392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60420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F3337-624D-4CDD-B91D-4C22C500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D81FC-7331-4205-908A-B16A5487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2160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3936F-20D3-48DC-ACCD-6BAC16D3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2160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91FA1-BBF3-4949-B5A4-6145BEFF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961-6F97-4F0B-AABD-48A9FD5F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31ADB-D19E-4A19-8534-78B734CA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9CC52-B3C9-40E8-BD12-AEC506FC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21600" cy="56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E05C9-7763-4997-82E0-57E63F2F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F455D-BA43-4E01-ACA1-AA78684F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2640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D0CDC-20AA-439A-B9FD-D17C3B3F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8E045-A3E2-4525-8470-BDB841FF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41875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2827C-BE9C-4911-B5B8-D1666FEE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2640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AFC07-A32B-4A72-BC27-5C7BE1C3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5392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04200" y="17683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5392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604200" y="4187520"/>
            <a:ext cx="29048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B7E03-91AF-4F16-8916-ADFF70C7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8D7D-7891-4014-8581-96286A34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21600" cy="56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F1B-2AB9-417F-BD06-406457A8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75A-1CD1-4F2D-B613-1DE1C96E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26400" y="41875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7EFB-69B4-49AD-B2DA-CF546E49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6400" y="1768320"/>
            <a:ext cx="440244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280" y="4187520"/>
            <a:ext cx="90216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16D9-7337-4D19-ADC0-9AAB2702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2160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2160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2986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464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2986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A3C4CA-6D65-4FD8-BD0B-EF6A8CBF91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160640" y="476280"/>
            <a:ext cx="495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1836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1872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2953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431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225920" y="6886080"/>
            <a:ext cx="229572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922D3-6C74-4989-B7DD-97E4C741BF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1836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1872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2953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431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225920" y="6886080"/>
            <a:ext cx="229572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FD4BF-12B6-44F5-AF29-2807EEA6D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1836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1872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2953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431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225920" y="6886080"/>
            <a:ext cx="229572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09350-D299-4A95-8D09-885D52055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docs.google.com/spreadsheets/d/16-7CvRxNEcpX4k25sYjcV3G4XoqYFwvGXn1W0fv3CAQ/edit?usp=sharing" TargetMode="External"/><Relationship Id="rId2" Type="http://schemas.openxmlformats.org/officeDocument/2006/relationships/hyperlink" Target="http://ic3.cat/wikicfu/index.php/Tools/s2dverification#Development" TargetMode="External"/><Relationship Id="rId3" Type="http://schemas.openxmlformats.org/officeDocument/2006/relationships/hyperlink" Target="https://gitlab.cfu.local/cfu/s2dverification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55640" y="1403280"/>
            <a:ext cx="70563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s2dverific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date meeting – 09/12/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ri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87640" y="4896000"/>
            <a:ext cx="4103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2dverification@s2dverification.ic3.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55640" y="1403280"/>
            <a:ext cx="705636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4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Current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4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Review SCRUM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4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Review Wiki on devel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4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Review GitLab (issues &amp; M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4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Comments &amp;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55640" y="1403280"/>
            <a:ext cx="8845560" cy="57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urrent 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Latest release: s2dverification 2.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4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On C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Ne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4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Enhanced developing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New GIT branching scheme, use of GitLab, testing procedure + script to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4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Tested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Load obs only, plot stereo map, plot ACC, corr level signif, colorbar enh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54520" y="6472080"/>
            <a:ext cx="182520" cy="182880"/>
          </a:xfrm>
          <a:prstGeom prst="flowChartConnector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54520" y="6761160"/>
            <a:ext cx="182520" cy="182520"/>
          </a:xfrm>
          <a:prstGeom prst="flowChartConnector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54520" y="7048440"/>
            <a:ext cx="182520" cy="182520"/>
          </a:xfrm>
          <a:prstGeom prst="flowChartConnector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1403280"/>
            <a:ext cx="8845560" cy="57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urrent 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4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Untested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Prob bins, CRPS, ACC permutation, load extreme, load 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4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Features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Generalised load, deactivate confidence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104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Sans"/>
              </a:rPr>
              <a:t>Load glor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DejaVu Sans"/>
              </a:rPr>
              <a:t>Next release: s2dverification 2.2.0? 3.0.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54520" y="2224080"/>
            <a:ext cx="182520" cy="182520"/>
          </a:xfrm>
          <a:prstGeom prst="flowChartConnector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54520" y="2513160"/>
            <a:ext cx="182520" cy="182520"/>
          </a:xfrm>
          <a:prstGeom prst="flowChartConnector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54520" y="2800440"/>
            <a:ext cx="182520" cy="182520"/>
          </a:xfrm>
          <a:prstGeom prst="flowChartConnector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5640" y="1403280"/>
            <a:ext cx="8845560" cy="57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Review SCRUM document</a:t>
            </a:r>
            <a:br>
              <a:rPr sz="5400"/>
            </a:b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docs.google.com/spreadsheets/d/16-7CvRxNEcpX4k25sYjcV3G4XoqYFwvGXn1W0fv3CAQ/edit?usp=sharing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Review Wiki on developing</a:t>
            </a:r>
            <a:br>
              <a:rPr sz="5400"/>
            </a:b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ic3.cat/wikicfu/index.php/Tools/s2dverification#Development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Review GitLab</a:t>
            </a:r>
            <a:br>
              <a:rPr sz="5400"/>
            </a:b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s://gitlab.cfu.local/cfu/s2dverific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55640" y="1403280"/>
            <a:ext cx="705636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omments &amp; reques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ice</dc:creator>
  <dc:description/>
  <dc:language>en-US</dc:language>
  <cp:lastModifiedBy>Melanie Davis</cp:lastModifiedBy>
  <cp:lastPrinted>2013-09-09T17:33:01Z</cp:lastPrinted>
  <dcterms:modified xsi:type="dcterms:W3CDTF">2013-06-29T13:34:33Z</dcterms:modified>
  <cp:revision>0</cp:revision>
  <dc:subject/>
  <dc:title/>
</cp:coreProperties>
</file>